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A6FB-7B0A-49D0-8B5B-63965D1A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C20-E5F0-412E-8EF2-5987B39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AB6-649A-4D3C-9A18-0D72B820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F41-2FBA-423F-B150-F614B382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2EB-DDD2-40EF-8D46-1AE344FD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054D-6770-4B6A-82FC-053EE96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27DF-4674-4DCF-8B5C-57360BF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2C4-BAB8-4EE2-A1DA-06FF94D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5C2-5A2C-4E6A-81B8-5B3915B7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2E3-C73A-453C-A020-08B957A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1260-0641-4640-A41F-D92EA85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7B1-44C2-41EB-8674-09D1527E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8CA5-ED30-48FA-9683-29E6E66B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97D-7AF5-4911-AF83-B6185C0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FF9-62EB-4B9C-B708-960F38F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430-357A-4856-86CC-4F2D2F29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B927-9D5B-4D8C-B974-B5680D69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5B2-743C-45AC-A196-F8C1DB9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C58-657D-48D2-9E80-052BE8EB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A2D-D215-4D9E-9C35-65AED0D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396-C6C1-460C-B8AA-8E5E0BF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1DC-6948-4B42-8A7A-B4ECF0D2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D11-E761-4E5C-818A-2B6B743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2F5-A78D-474A-BD1A-DB77FC3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5E3-92D6-4BCF-8E6C-B2ECA35353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97C-6043-46A0-A685-8C4F09AC5D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28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29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88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01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02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55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56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09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10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440"/>
                            </p:stCondLst>
                            <p:childTnLst>
                              <p:par>
                                <p:cTn id="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880"/>
                            </p:stCondLst>
                            <p:childTnLst>
                              <p:par>
                                <p:cTn id="7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20"/>
                            </p:stCondLst>
                            <p:childTnLst>
                              <p:par>
                                <p:cTn id="7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74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75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4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3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54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55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